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237-8174-4B83-BBB6-2E45D4D3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C8F-37D7-47EF-9931-DF6FECF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DB7-7FFC-49AA-B9DD-45B5892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70D-FA43-427A-A460-906E7131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F4CC-9675-499A-87E6-3D8ADF48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D954-C660-405F-AA12-288ABAAE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8217-484C-478B-BDC6-03F1BB2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DC16-B340-4B7F-A267-C79372A9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D1CC-0428-4DFB-B274-2D64F3E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2B60-C1FA-4064-962E-57B18BB4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F633-FE14-421C-8571-B6D77E0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3F1-A52C-4D67-9195-2B1F371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403-EDE9-4C96-8DB9-EF9F5CB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A23-66E6-4B0C-BC85-B5E98EA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87D-3E97-40D9-8401-8CDE12BC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B1A1-EE8D-4B0C-AA60-1CC1CE8F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9C42-BF4D-496C-8B70-D04BE9D7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CAB-91FD-45BA-8537-9F08819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770-5E80-4C66-BD89-13030A3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8C8-C05E-4585-B5D2-B69198D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D28-5A9B-4E95-914B-37AB90C8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70E-8413-4F09-9FEB-B5CC646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31-B44D-4D22-B925-1F21A9C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6AB-0E7C-4E7E-B8AF-78BD6BB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F87-9751-41B1-98E5-7A1E0D4AA3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F3F7-6F4E-43DA-A070-CD1873E6C3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ceanpacific.com/" TargetMode="External"/><Relationship Id="rId3" Type="http://schemas.openxmlformats.org/officeDocument/2006/relationships/hyperlink" Target="http://www.walmart.com/cp/op/961919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2120" y="4648320"/>
            <a:ext cx="497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ere am I wearing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: Desiree Rodriguez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Ocean Pacific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Ocean pacific is made in China and in Indon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95680" y="3048120"/>
            <a:ext cx="350532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Arial"/>
              </a:rPr>
              <a:t>Wal-Mar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As I was doing my research there wasn’t many things about Ocean Pacific but it did bring me to Wal-M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 found out that Wal-Mart’s suppliers were caught more than once violating labor and human rights my using sweatshop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Sweatshop labor is when employees are not being treated right, don’t have equal rights at their job, work too many hours and don’t get paid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Bangladesh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The Bangladeshi Garment Plant Harvest Rich, employed about 200 to 300 children to sew clothes for puma, JC Penny, Wal-Mart, and H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On October of 2006, The National Labor Committee reported children being beaten, suffering from exhaustions, working mandatory hours a day, and being paid as little as 6 ½ cents an hour but more than 100 child workers were f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4267080"/>
            <a:ext cx="3581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National Labor Committe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he NLC is demanding U.S companies sourcing from the factory to supply each fired child worker with a monthly payment to release stress on their families and cover essential school expenses for text books, supplies, uniforms, and shoes so the children may return to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4267080"/>
            <a:ext cx="3581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Go Green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eople are trying to shop with Go Green to pressure Wal-Mart to reduce its environmental impact and so they can respect it’s work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Go Green means shopping locally at hardware stores/ house ware stores that offer low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4343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Citation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oceanpacific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walmart.com/cp/op/9619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walmart.com/browse/juniors/op/_/N-34elzzyztr72?ic=48_0&amp;path=0%3A5438%3a961919&amp;ref=181605.184557+500500.4292807150&amp;search_sort=6&amp;selected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Greenameric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htp://www.greenamerica.org/programs/responsibleshopper/learn_hub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greenamerica.org/programs/responsibleshopper/company.cfm?id=3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http://www.greenamerica.org/programs/responsibleshopper/live/bigbox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5:24:21Z</dcterms:created>
  <dc:creator>Administrator</dc:creator>
  <dc:description/>
  <dc:language>en-US</dc:language>
  <cp:lastModifiedBy>Administrator</cp:lastModifiedBy>
  <dcterms:modified xsi:type="dcterms:W3CDTF">2010-11-10T15:39:24Z</dcterms:modified>
  <cp:revision>3</cp:revision>
  <dc:subject/>
  <dc:title>Slide 1</dc:title>
</cp:coreProperties>
</file>